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gif" ContentType="image/gi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9E13-0CD8-4BD6-8088-533492796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28CA-ACD4-4A5C-9ADE-EA132DC4E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814D-010C-45E7-B0CB-861E79875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2C01-F557-4E31-824F-AFFC74C1A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0B95-F2B5-4900-9B0D-233A337F4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605D-7550-4E9D-B2C1-EE3973FAB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5A26-F5B8-423B-861D-4FB03CB5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69B0-31E4-4E2D-8CC9-240085CB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10D-A18A-4F39-865C-42C2B002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175-6AE2-4402-97F1-C21D744E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55B-1921-46CC-94F3-50667AA8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2FF-90A5-4173-8E7F-EEE70938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A73-00EF-4055-800C-1768E384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709-CC83-4808-99C1-B6E43C2E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5279-0479-4597-A30C-16A269EE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D86-BBC3-4D5E-B736-07FD7406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FCE-060D-479F-AC4D-1AAF5971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DCA2-560C-4917-858F-84243669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9F73-A208-4B6D-A5C0-EBA8711E0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60" y="228600"/>
            <a:ext cx="6096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x by Carl Sandburg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D of the sea runs 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 sunset reaches and quiv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d of the sea runs yel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he moon slants and wav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29680" y="3276720"/>
            <a:ext cx="519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Chicago Poems, New York: Henry Holt &amp; Company, 19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6515280" y="6019920"/>
            <a:ext cx="2514600" cy="666720"/>
          </a:xfrm>
          <a:custGeom>
            <a:avLst/>
            <a:gdLst>
              <a:gd name="textAreaLeft" fmla="*/ 43200 w 2514600"/>
              <a:gd name="textAreaRight" fmla="*/ 2471400 w 2514600"/>
              <a:gd name="textAreaTop" fmla="*/ 43200 h 666720"/>
              <a:gd name="textAreaBottom" fmla="*/ 623520 h 666720"/>
            </a:gdLst>
            <a:ahLst/>
            <a:rect l="textAreaLeft" t="textAreaTop" r="textAreaRight" b="textAreaBottom"/>
            <a:pathLst>
              <a:path w="81434" h="21600">
                <a:moveTo>
                  <a:pt x="0" y="0"/>
                </a:moveTo>
                <a:lnTo>
                  <a:pt x="81434" y="0"/>
                </a:lnTo>
                <a:lnTo>
                  <a:pt x="81434" y="21600"/>
                </a:lnTo>
                <a:lnTo>
                  <a:pt x="0" y="21600"/>
                </a:lnTo>
                <a:close/>
              </a:path>
              <a:path fill="lightenLess" w="81434" h="21600">
                <a:moveTo>
                  <a:pt x="0" y="0"/>
                </a:moveTo>
                <a:lnTo>
                  <a:pt x="81434" y="0"/>
                </a:lnTo>
                <a:lnTo>
                  <a:pt x="80034" y="1400"/>
                </a:lnTo>
                <a:lnTo>
                  <a:pt x="1400" y="1400"/>
                </a:lnTo>
                <a:close/>
              </a:path>
              <a:path fill="darken" w="81434" h="21600">
                <a:moveTo>
                  <a:pt x="81434" y="0"/>
                </a:moveTo>
                <a:lnTo>
                  <a:pt x="81434" y="21600"/>
                </a:lnTo>
                <a:lnTo>
                  <a:pt x="80034" y="20200"/>
                </a:lnTo>
                <a:lnTo>
                  <a:pt x="80034" y="1400"/>
                </a:lnTo>
                <a:close/>
              </a:path>
              <a:path fill="darkenLess" w="81434" h="21600">
                <a:moveTo>
                  <a:pt x="814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034" y="20200"/>
                </a:lnTo>
                <a:close/>
              </a:path>
              <a:path fill="lighten" w="814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2286000"/>
            <a:ext cx="6248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</a:rPr>
              <a:t>SAND of the sea runs 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</a:rPr>
              <a:t>Where the sunset reaches and qui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</a:rPr>
              <a:t>Sand of the sea runs yel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Lucida Sans"/>
              </a:rPr>
              <a:t>Where the moon slants and wavers.</a:t>
            </a:r>
            <a:r>
              <a:rPr b="0" lang="en-US" sz="2400" spc="-1" strike="noStrike">
                <a:solidFill>
                  <a:srgbClr val="ff3300"/>
                </a:solidFill>
                <a:latin typeface="Lucida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767400" y="6505560"/>
            <a:ext cx="50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Lucida Sans"/>
              </a:rPr>
              <a:t>From Chicago Poems, New York: Henry Holt &amp; Company, 19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MPj04011650000[1]"/>
          <p:cNvPicPr/>
          <p:nvPr/>
        </p:nvPicPr>
        <p:blipFill>
          <a:blip r:embed="rId1"/>
          <a:stretch/>
        </p:blipFill>
        <p:spPr>
          <a:xfrm>
            <a:off x="6013440" y="307800"/>
            <a:ext cx="2590920" cy="22672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6"/>
          <p:cNvSpPr/>
          <p:nvPr/>
        </p:nvSpPr>
        <p:spPr>
          <a:xfrm>
            <a:off x="1066680" y="5486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Sans"/>
              </a:rPr>
              <a:t>Sound Interpre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929880" y="837720"/>
            <a:ext cx="2971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539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oudy Stout"/>
              </a:rPr>
              <a:t>Flux </a:t>
            </a:r>
            <a:br>
              <a:rPr sz="1000"/>
            </a:br>
            <a:r>
              <a:rPr b="1" lang="en-US" sz="1000" spc="-1" strike="noStrike">
                <a:solidFill>
                  <a:srgbClr val="ff3300"/>
                </a:solidFill>
                <a:latin typeface="Lucida Sans"/>
              </a:rPr>
              <a:t>  </a:t>
            </a:r>
            <a:r>
              <a:rPr b="1" lang="en-US" sz="1200" spc="-1" strike="noStrike">
                <a:solidFill>
                  <a:srgbClr val="ff3300"/>
                </a:solidFill>
                <a:latin typeface="Lucida Sans"/>
              </a:rPr>
              <a:t>by Carl Sandbu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0" descr=""/>
          <p:cNvPicPr/>
          <p:nvPr/>
        </p:nvPicPr>
        <p:blipFill>
          <a:blip r:embed="rId2"/>
          <a:stretch/>
        </p:blipFill>
        <p:spPr>
          <a:xfrm>
            <a:off x="609480" y="5508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1"/>
          <p:cNvSpPr/>
          <p:nvPr/>
        </p:nvSpPr>
        <p:spPr>
          <a:xfrm>
            <a:off x="1066680" y="60199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Sans"/>
              </a:rPr>
              <a:t>Video Interpre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8"/>
          <p:cNvSpPr/>
          <p:nvPr/>
        </p:nvSpPr>
        <p:spPr>
          <a:xfrm>
            <a:off x="6877080" y="5943600"/>
            <a:ext cx="2038320" cy="457200"/>
          </a:xfrm>
          <a:custGeom>
            <a:avLst/>
            <a:gdLst>
              <a:gd name="textAreaLeft" fmla="*/ 29520 w 2038320"/>
              <a:gd name="textAreaRight" fmla="*/ 2008800 w 2038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6240" h="21600">
                <a:moveTo>
                  <a:pt x="0" y="0"/>
                </a:moveTo>
                <a:lnTo>
                  <a:pt x="96240" y="0"/>
                </a:lnTo>
                <a:lnTo>
                  <a:pt x="96240" y="21600"/>
                </a:lnTo>
                <a:lnTo>
                  <a:pt x="0" y="21600"/>
                </a:lnTo>
                <a:close/>
              </a:path>
              <a:path fill="lightenLess" w="96240" h="21600">
                <a:moveTo>
                  <a:pt x="0" y="0"/>
                </a:moveTo>
                <a:lnTo>
                  <a:pt x="96240" y="0"/>
                </a:lnTo>
                <a:lnTo>
                  <a:pt x="94840" y="1400"/>
                </a:lnTo>
                <a:lnTo>
                  <a:pt x="1400" y="1400"/>
                </a:lnTo>
                <a:close/>
              </a:path>
              <a:path fill="darken" w="96240" h="21600">
                <a:moveTo>
                  <a:pt x="96240" y="0"/>
                </a:moveTo>
                <a:lnTo>
                  <a:pt x="96240" y="21600"/>
                </a:lnTo>
                <a:lnTo>
                  <a:pt x="94840" y="20200"/>
                </a:lnTo>
                <a:lnTo>
                  <a:pt x="94840" y="1400"/>
                </a:lnTo>
                <a:close/>
              </a:path>
              <a:path fill="darkenLess" w="96240" h="21600">
                <a:moveTo>
                  <a:pt x="96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840" y="20200"/>
                </a:lnTo>
                <a:close/>
              </a:path>
              <a:path fill="lighten" w="96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udent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9"/>
          <p:cNvSpPr/>
          <p:nvPr/>
        </p:nvSpPr>
        <p:spPr>
          <a:xfrm>
            <a:off x="533520" y="59436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270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6"/>
          <p:cNvSpPr/>
          <p:nvPr/>
        </p:nvSpPr>
        <p:spPr>
          <a:xfrm>
            <a:off x="2895480" y="457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Lucida Sans"/>
              </a:rPr>
              <a:t>Flux=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31120" y="649116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Video courtesy of 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2"/>
          <p:cNvSpPr/>
          <p:nvPr/>
        </p:nvSpPr>
        <p:spPr>
          <a:xfrm>
            <a:off x="6877080" y="6191280"/>
            <a:ext cx="2038320" cy="457200"/>
          </a:xfrm>
          <a:custGeom>
            <a:avLst/>
            <a:gdLst>
              <a:gd name="textAreaLeft" fmla="*/ 29520 w 2038320"/>
              <a:gd name="textAreaRight" fmla="*/ 2008800 w 2038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6240" h="21600">
                <a:moveTo>
                  <a:pt x="0" y="0"/>
                </a:moveTo>
                <a:lnTo>
                  <a:pt x="96240" y="0"/>
                </a:lnTo>
                <a:lnTo>
                  <a:pt x="96240" y="21600"/>
                </a:lnTo>
                <a:lnTo>
                  <a:pt x="0" y="21600"/>
                </a:lnTo>
                <a:close/>
              </a:path>
              <a:path fill="lightenLess" w="96240" h="21600">
                <a:moveTo>
                  <a:pt x="0" y="0"/>
                </a:moveTo>
                <a:lnTo>
                  <a:pt x="96240" y="0"/>
                </a:lnTo>
                <a:lnTo>
                  <a:pt x="94840" y="1400"/>
                </a:lnTo>
                <a:lnTo>
                  <a:pt x="1400" y="1400"/>
                </a:lnTo>
                <a:close/>
              </a:path>
              <a:path fill="darken" w="96240" h="21600">
                <a:moveTo>
                  <a:pt x="96240" y="0"/>
                </a:moveTo>
                <a:lnTo>
                  <a:pt x="96240" y="21600"/>
                </a:lnTo>
                <a:lnTo>
                  <a:pt x="94840" y="20200"/>
                </a:lnTo>
                <a:lnTo>
                  <a:pt x="94840" y="1400"/>
                </a:lnTo>
                <a:close/>
              </a:path>
              <a:path fill="darkenLess" w="96240" h="21600">
                <a:moveTo>
                  <a:pt x="962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840" y="20200"/>
                </a:lnTo>
                <a:close/>
              </a:path>
              <a:path fill="lighten" w="962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udent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>
            <a:hlinkClick r:id="" action="ppaction://hlinkshowjump?jump=previousslide"/>
          </p:cNvPr>
          <p:cNvSpPr/>
          <p:nvPr/>
        </p:nvSpPr>
        <p:spPr>
          <a:xfrm>
            <a:off x="5867280" y="619128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7" descr="moon_animation.gif"/>
          <p:cNvPicPr/>
          <p:nvPr/>
        </p:nvPicPr>
        <p:blipFill>
          <a:blip r:embed="rId1"/>
          <a:stretch/>
        </p:blipFill>
        <p:spPr>
          <a:xfrm>
            <a:off x="3048120" y="1676520"/>
            <a:ext cx="304776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TextBox 8"/>
          <p:cNvSpPr/>
          <p:nvPr/>
        </p:nvSpPr>
        <p:spPr>
          <a:xfrm>
            <a:off x="2743200" y="51055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For this sample, the moon video has been converted to an animated .gif. To view the movie, play the Slide Show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MCj02507900000[1]"/>
          <p:cNvPicPr/>
          <p:nvPr/>
        </p:nvPicPr>
        <p:blipFill>
          <a:blip r:embed="rId1"/>
          <a:stretch/>
        </p:blipFill>
        <p:spPr>
          <a:xfrm>
            <a:off x="304920" y="380880"/>
            <a:ext cx="2904840" cy="197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04960" y="1143000"/>
            <a:ext cx="49021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u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Carl Sandburg</a:t>
            </a:r>
            <a:br>
              <a:rPr sz="1800"/>
            </a:b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 of the sea runs 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he sunset reaches and quiv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 of the sea runs yel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he moon slants and wav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1397160" y="6248520"/>
            <a:ext cx="517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Chicago Poems, New York: Henry Holt &amp; Company, 19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7" descr=""/>
          <p:cNvPicPr/>
          <p:nvPr/>
        </p:nvPicPr>
        <p:blipFill>
          <a:blip r:embed="rId2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25"/>
          <p:cNvSpPr/>
          <p:nvPr/>
        </p:nvSpPr>
        <p:spPr>
          <a:xfrm>
            <a:off x="6858000" y="6172200"/>
            <a:ext cx="2057400" cy="457200"/>
          </a:xfrm>
          <a:custGeom>
            <a:avLst/>
            <a:gdLst>
              <a:gd name="textAreaLeft" fmla="*/ 29520 w 2057400"/>
              <a:gd name="textAreaRight" fmla="*/ 2027880 w 2057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97141" h="21600">
                <a:moveTo>
                  <a:pt x="0" y="0"/>
                </a:moveTo>
                <a:lnTo>
                  <a:pt x="97141" y="0"/>
                </a:lnTo>
                <a:lnTo>
                  <a:pt x="97141" y="21600"/>
                </a:lnTo>
                <a:lnTo>
                  <a:pt x="0" y="21600"/>
                </a:lnTo>
                <a:close/>
              </a:path>
              <a:path fill="lightenLess" w="97141" h="21600">
                <a:moveTo>
                  <a:pt x="0" y="0"/>
                </a:moveTo>
                <a:lnTo>
                  <a:pt x="97141" y="0"/>
                </a:lnTo>
                <a:lnTo>
                  <a:pt x="95741" y="1400"/>
                </a:lnTo>
                <a:lnTo>
                  <a:pt x="1400" y="1400"/>
                </a:lnTo>
                <a:close/>
              </a:path>
              <a:path fill="darken" w="97141" h="21600">
                <a:moveTo>
                  <a:pt x="97141" y="0"/>
                </a:moveTo>
                <a:lnTo>
                  <a:pt x="97141" y="21600"/>
                </a:lnTo>
                <a:lnTo>
                  <a:pt x="95741" y="20200"/>
                </a:lnTo>
                <a:lnTo>
                  <a:pt x="95741" y="1400"/>
                </a:lnTo>
                <a:close/>
              </a:path>
              <a:path fill="darkenLess" w="97141" h="21600">
                <a:moveTo>
                  <a:pt x="97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741" y="20200"/>
                </a:lnTo>
                <a:close/>
              </a:path>
              <a:path fill="lighten" w="97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udent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250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1346040" y="1143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 of the sea runs 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he sunset reaches and qu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 of the sea runs yel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he moon slants and wav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181480" y="2819520"/>
            <a:ext cx="291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l Sand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2819520" y="4724280"/>
            <a:ext cx="2971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4d4d4d"/>
                </a:solidFill>
                <a:latin typeface="Arial"/>
              </a:rPr>
              <a:t>Flu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783800" y="6324480"/>
            <a:ext cx="519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From Chicago Poems, New York: Henry Holt &amp; Company, 19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3" descr=""/>
          <p:cNvPicPr/>
          <p:nvPr/>
        </p:nvPicPr>
        <p:blipFill>
          <a:blip r:embed="rId2"/>
          <a:stretch/>
        </p:blipFill>
        <p:spPr>
          <a:xfrm>
            <a:off x="838080" y="4800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12">
            <a:hlinkClick r:id="" action="ppaction://hlinkshowjump?jump=endshow"/>
          </p:cNvPr>
          <p:cNvSpPr/>
          <p:nvPr/>
        </p:nvSpPr>
        <p:spPr>
          <a:xfrm>
            <a:off x="8001000" y="619128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003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17:04:45Z</dcterms:created>
  <dc:creator>SchoolKiT</dc:creator>
  <dc:description>© 2005-2007 SchoolKiT.com Inc.
This template is a component of a SchoolKiT product and may only be used under license. For more information visit: www.schoolkit.com.</dc:description>
  <cp:keywords/>
  <dc:language>en-US</dc:language>
  <cp:lastModifiedBy>Lezie</cp:lastModifiedBy>
  <dcterms:modified xsi:type="dcterms:W3CDTF">2010-05-25T12:46:37Z</dcterms:modified>
  <cp:revision>55</cp:revision>
  <dc:subject>SchoolKiT</dc:subject>
  <dc:title>Poetry in Motion Sample</dc:title>
</cp:coreProperties>
</file>